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4CBF22-4AEC-4571-9021-5EC6BAEF494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0392FA-0065-4D80-A8C0-E10A9E3AC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7CC232-FDCD-46A5-A087-1D87B9C7B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63AE00-59C5-4E7E-A7B5-B7C1441E6BD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4FB2F5-BED2-4D16-9849-B1C5E7569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913E0C-2AE7-4619-919A-82D6B4CE9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F85CB9-EF0E-47A4-BB3A-A588F5832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58960B-5865-42B5-9285-414DAED6A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24AA05-3E4D-4F65-BF62-BE5FB0BE0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187B30-73B2-416C-B3E8-7F843B183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360F04-E0B6-490A-AEC3-639B50F41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7B46DA-D7B0-4418-A221-F05B788B6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B2B5D-BB56-49A5-A2F6-9B0B529D020F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7640" y="2205000"/>
            <a:ext cx="43909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十九章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临终患者的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高欢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临终关怀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四）机构类型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独立的临终关怀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附设临终关怀机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居家式临终关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癌症患者俱乐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其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二、濒死与死亡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一）定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99669b"/>
                </a:solidFill>
                <a:latin typeface="Verdana"/>
                <a:ea typeface="宋体"/>
              </a:rPr>
              <a:t>濒死（</a:t>
            </a:r>
            <a:r>
              <a:rPr b="1" lang="en-US" sz="2800" spc="-1" strike="noStrike">
                <a:solidFill>
                  <a:srgbClr val="99669b"/>
                </a:solidFill>
                <a:latin typeface="Verdana"/>
                <a:ea typeface="宋体"/>
              </a:rPr>
              <a:t>dying</a:t>
            </a:r>
            <a:r>
              <a:rPr b="1" lang="zh-CN" sz="2800" spc="-1" strike="noStrike">
                <a:solidFill>
                  <a:srgbClr val="99669b"/>
                </a:solidFill>
                <a:latin typeface="Verdana"/>
                <a:ea typeface="宋体"/>
              </a:rPr>
              <a:t>）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即指临终状态，患者已接受各种治疗后，但病情加速恶化，各种迹象显示生命即将结束，是生命活动的最后阶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二、濒死与死亡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一）定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99669b"/>
                </a:solidFill>
                <a:latin typeface="Verdana"/>
                <a:ea typeface="宋体"/>
              </a:rPr>
              <a:t>死亡（</a:t>
            </a:r>
            <a:r>
              <a:rPr b="1" lang="en-US" sz="2800" spc="-1" strike="noStrike">
                <a:solidFill>
                  <a:srgbClr val="99669b"/>
                </a:solidFill>
                <a:latin typeface="Verdana"/>
                <a:ea typeface="宋体"/>
              </a:rPr>
              <a:t>death</a:t>
            </a:r>
            <a:r>
              <a:rPr b="1" lang="zh-CN" sz="2800" spc="-1" strike="noStrike">
                <a:solidFill>
                  <a:srgbClr val="99669b"/>
                </a:solidFill>
                <a:latin typeface="Verdana"/>
                <a:ea typeface="宋体"/>
              </a:rPr>
              <a:t>）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95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年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《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Black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法律词典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》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定义：生命之终结，在于血液循环完全停止，呼吸、脉搏停止之时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生物医学定义：死亡是个体生命活动和新陈代谢的永久终止 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临床上，当患者呼吸、心搏停止，瞳孔散大而固定，所有反射消失，心电波平直，即可宣布死亡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二、濒死与死亡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一）定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Verdana"/>
                <a:ea typeface="宋体"/>
              </a:rPr>
              <a:t>脑死亡（</a:t>
            </a:r>
            <a:r>
              <a:rPr b="1" lang="en-US" sz="2800" spc="-1" strike="noStrike">
                <a:solidFill>
                  <a:srgbClr val="99669b"/>
                </a:solidFill>
                <a:latin typeface="Verdana"/>
                <a:ea typeface="宋体"/>
              </a:rPr>
              <a:t>brain death</a:t>
            </a:r>
            <a:r>
              <a:rPr b="1" lang="zh-CN" sz="2800" spc="-1" strike="noStrike">
                <a:solidFill>
                  <a:srgbClr val="99669b"/>
                </a:solidFill>
                <a:latin typeface="Verdana"/>
                <a:ea typeface="宋体"/>
              </a:rPr>
              <a:t>）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指全脑死亡，包括大脑、中脑、小脑和脑干的不可逆死亡，是生命活动结束的象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诊断标准是：①感受性及反应性；② 无运动或无呼吸；③ 无反射；④ 脑电波平坦。上述标准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4h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反复复查无改变，排除体温过低（低于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2.2℃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及大量服用中枢神经系统抑制剂的影响，即可做脑死亡的诊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二、濒死与死亡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二）分期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  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死亡一般分为三期：濒死期、临床死亡期和生物学死亡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二、濒死与死亡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二）分期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宋体"/>
                <a:ea typeface="宋体"/>
              </a:rPr>
              <a:t>濒死期（</a:t>
            </a:r>
            <a:r>
              <a:rPr b="1" lang="en-US" sz="2800" spc="-1" strike="noStrike">
                <a:solidFill>
                  <a:srgbClr val="99669b"/>
                </a:solidFill>
                <a:latin typeface="宋体"/>
                <a:ea typeface="宋体"/>
              </a:rPr>
              <a:t>agonal stage</a:t>
            </a:r>
            <a:r>
              <a:rPr b="1" lang="zh-CN" sz="2800" spc="-1" strike="noStrike">
                <a:solidFill>
                  <a:srgbClr val="99669b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又称临终状态。是死亡过程的开始阶段。机体各系统的功能发生严重障碍，中枢神经系统脑干以上部位的功能处于深度抑制状态或丧失，而脑干功能存在，生命处于可逆阶段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二、濒死与死亡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二）分期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宋体"/>
                <a:ea typeface="宋体"/>
              </a:rPr>
              <a:t>临床死亡期（</a:t>
            </a:r>
            <a:r>
              <a:rPr b="1" lang="en-US" sz="2800" spc="-1" strike="noStrike">
                <a:solidFill>
                  <a:srgbClr val="99669b"/>
                </a:solidFill>
                <a:latin typeface="宋体"/>
                <a:ea typeface="宋体"/>
              </a:rPr>
              <a:t>clinical death stage</a:t>
            </a:r>
            <a:r>
              <a:rPr b="1" lang="zh-CN" sz="2800" spc="-1" strike="noStrike">
                <a:solidFill>
                  <a:srgbClr val="99669b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此期中枢神经系统的抑制过程已由大脑皮质扩散到皮质下部位，延髓处于极度抑制状态。一般持续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6min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，及时采取有效的急救措施仍有复苏的可能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二、濒死与死亡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二）分期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宋体"/>
                <a:ea typeface="宋体"/>
              </a:rPr>
              <a:t>生物学死亡期（</a:t>
            </a:r>
            <a:r>
              <a:rPr b="1" lang="en-US" sz="2800" spc="-1" strike="noStrike">
                <a:solidFill>
                  <a:srgbClr val="99669b"/>
                </a:solidFill>
                <a:latin typeface="宋体"/>
                <a:ea typeface="宋体"/>
              </a:rPr>
              <a:t>biological death stage</a:t>
            </a:r>
            <a:r>
              <a:rPr b="1" lang="zh-CN" sz="2800" spc="-1" strike="noStrike">
                <a:solidFill>
                  <a:srgbClr val="99669b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是死亡过程的最后阶段，整个中枢神经系统及各器官的新陈代谢相继停止，出现不可逆变化，已不可能复活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随着此期的进展，相继出现尸冷、尸斑、尸僵、尸体腐败等现象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二、濒死与死亡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AutoShape 4"/>
          <p:cNvSpPr/>
          <p:nvPr/>
        </p:nvSpPr>
        <p:spPr>
          <a:xfrm>
            <a:off x="755640" y="1557360"/>
            <a:ext cx="1440000" cy="719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9b"/>
                </a:solidFill>
                <a:latin typeface="Arial"/>
                <a:ea typeface="宋体"/>
              </a:rPr>
              <a:t>尸冷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AutoShape 5"/>
          <p:cNvSpPr/>
          <p:nvPr/>
        </p:nvSpPr>
        <p:spPr>
          <a:xfrm>
            <a:off x="2556000" y="1557360"/>
            <a:ext cx="6408720" cy="719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死亡后因体内产热停止，尸体温度逐渐下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AutoShape 6"/>
          <p:cNvSpPr/>
          <p:nvPr/>
        </p:nvSpPr>
        <p:spPr>
          <a:xfrm>
            <a:off x="2195640" y="1916280"/>
            <a:ext cx="360360" cy="144360"/>
          </a:xfrm>
          <a:prstGeom prst="rightArrow">
            <a:avLst>
              <a:gd name="adj1" fmla="val 50000"/>
              <a:gd name="adj2" fmla="val 62406"/>
            </a:avLst>
          </a:prstGeom>
          <a:solidFill>
            <a:srgbClr val="8ac8de"/>
          </a:solidFill>
          <a:ln w="1908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AutoShape 7"/>
          <p:cNvSpPr/>
          <p:nvPr/>
        </p:nvSpPr>
        <p:spPr>
          <a:xfrm>
            <a:off x="755640" y="2492280"/>
            <a:ext cx="1438200" cy="720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9b"/>
                </a:solidFill>
                <a:latin typeface="Arial"/>
                <a:ea typeface="宋体"/>
              </a:rPr>
              <a:t>尸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AutoShape 9"/>
          <p:cNvSpPr/>
          <p:nvPr/>
        </p:nvSpPr>
        <p:spPr>
          <a:xfrm>
            <a:off x="755640" y="3500280"/>
            <a:ext cx="1438200" cy="720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9b"/>
                </a:solidFill>
                <a:latin typeface="Arial"/>
                <a:ea typeface="宋体"/>
              </a:rPr>
              <a:t>尸僵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AutoShape 10"/>
          <p:cNvSpPr/>
          <p:nvPr/>
        </p:nvSpPr>
        <p:spPr>
          <a:xfrm>
            <a:off x="755640" y="4581360"/>
            <a:ext cx="1438200" cy="719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Arial"/>
                <a:ea typeface="宋体"/>
              </a:rPr>
              <a:t>尸体腐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AutoShape 11"/>
          <p:cNvSpPr/>
          <p:nvPr/>
        </p:nvSpPr>
        <p:spPr>
          <a:xfrm>
            <a:off x="2556000" y="2492280"/>
            <a:ext cx="6408720" cy="720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死亡后血液循环停止，因地心引力作用血液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身体最低部位坠积，皮肤呈暗红色斑块或条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AutoShape 12"/>
          <p:cNvSpPr/>
          <p:nvPr/>
        </p:nvSpPr>
        <p:spPr>
          <a:xfrm>
            <a:off x="2556000" y="3500280"/>
            <a:ext cx="6408720" cy="719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死后肌肉中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ATP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断分解而不能再合成，致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肌肉收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AutoShape 14"/>
          <p:cNvSpPr/>
          <p:nvPr/>
        </p:nvSpPr>
        <p:spPr>
          <a:xfrm>
            <a:off x="2556000" y="4581360"/>
            <a:ext cx="6408720" cy="719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死亡后机体组织的蛋白质、脂肪和糖类因腐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细菌作用而分解的过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AutoShape 16"/>
          <p:cNvSpPr/>
          <p:nvPr/>
        </p:nvSpPr>
        <p:spPr>
          <a:xfrm>
            <a:off x="2195640" y="2781360"/>
            <a:ext cx="360360" cy="144360"/>
          </a:xfrm>
          <a:prstGeom prst="rightArrow">
            <a:avLst>
              <a:gd name="adj1" fmla="val 50000"/>
              <a:gd name="adj2" fmla="val 62406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AutoShape 17"/>
          <p:cNvSpPr/>
          <p:nvPr/>
        </p:nvSpPr>
        <p:spPr>
          <a:xfrm>
            <a:off x="2195640" y="3789360"/>
            <a:ext cx="360360" cy="144360"/>
          </a:xfrm>
          <a:prstGeom prst="rightArrow">
            <a:avLst>
              <a:gd name="adj1" fmla="val 50000"/>
              <a:gd name="adj2" fmla="val 62406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AutoShape 18"/>
          <p:cNvSpPr/>
          <p:nvPr/>
        </p:nvSpPr>
        <p:spPr>
          <a:xfrm>
            <a:off x="2195640" y="4869000"/>
            <a:ext cx="360360" cy="144360"/>
          </a:xfrm>
          <a:prstGeom prst="rightArrow">
            <a:avLst>
              <a:gd name="adj1" fmla="val 50000"/>
              <a:gd name="adj2" fmla="val 62406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358720" y="333000"/>
            <a:ext cx="6769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第二节   临终患者与家属的护理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一、临终患者的心理反应与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二、临终患者的生理变化与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三、临终患者家属的反应与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知识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描述临终关怀概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复述脑死亡的诊断标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描述临终患者各阶段的心理反应及生理变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能力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能根据临终患者的身心情况开展针对性的身心护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按正确操作规程进行尸体护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5520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临终患者的心理反应与护理</a:t>
            </a:r>
            <a:br>
              <a:rPr sz="28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一）临终患者的心理反应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当患者知道自己即将面临死亡时，其心理反应十分复杂，美国布勒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·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罗斯博士的研究认为临终患者通常经历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个心理反应阶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59" name="Group 5"/>
          <p:cNvGrpSpPr/>
          <p:nvPr/>
        </p:nvGrpSpPr>
        <p:grpSpPr>
          <a:xfrm>
            <a:off x="468360" y="3860640"/>
            <a:ext cx="1224000" cy="1863360"/>
            <a:chOff x="468360" y="3860640"/>
            <a:chExt cx="1224000" cy="1863360"/>
          </a:xfrm>
        </p:grpSpPr>
        <p:sp>
          <p:nvSpPr>
            <p:cNvPr id="160" name="AutoShape 6"/>
            <p:cNvSpPr/>
            <p:nvPr/>
          </p:nvSpPr>
          <p:spPr>
            <a:xfrm>
              <a:off x="468360" y="3860640"/>
              <a:ext cx="1163520" cy="1863360"/>
            </a:xfrm>
            <a:custGeom>
              <a:avLst/>
              <a:gdLst>
                <a:gd name="textAreaLeft" fmla="*/ 37080 w 1163520"/>
                <a:gd name="textAreaRight" fmla="*/ 1126440 w 1163520"/>
                <a:gd name="textAreaTop" fmla="*/ 37080 h 1863360"/>
                <a:gd name="textAreaBottom" fmla="*/ 1826280 h 1863360"/>
              </a:gdLst>
              <a:ahLst/>
              <a:rect l="textAreaLeft" t="textAreaTop" r="textAreaRight" b="textAreaBottom"/>
              <a:pathLst>
                <a:path w="21600" h="34588">
                  <a:moveTo>
                    <a:pt x="2352" y="0"/>
                  </a:moveTo>
                  <a:arcTo wR="2352" hR="2352" stAng="16200000" swAng="-5400000"/>
                  <a:lnTo>
                    <a:pt x="0" y="32236"/>
                  </a:lnTo>
                  <a:arcTo wR="2352" hR="2352" stAng="10800000" swAng="-5400000"/>
                  <a:lnTo>
                    <a:pt x="19248" y="34588"/>
                  </a:lnTo>
                  <a:arcTo wR="2352" hR="2352" stAng="5400000" swAng="-5400000"/>
                  <a:lnTo>
                    <a:pt x="21600" y="2352"/>
                  </a:lnTo>
                  <a:arcTo wR="2352" hR="2352" stAng="0" swAng="-5400000"/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50000">
                  <a:srgbClr val="f3f3f3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 </a:t>
              </a: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否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 </a:t>
              </a: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认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 </a:t>
              </a: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1" name="Text Box 7"/>
            <p:cNvSpPr/>
            <p:nvPr/>
          </p:nvSpPr>
          <p:spPr>
            <a:xfrm>
              <a:off x="783720" y="4209480"/>
              <a:ext cx="90864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62" name="Freeform 9"/>
          <p:cNvSpPr/>
          <p:nvPr/>
        </p:nvSpPr>
        <p:spPr>
          <a:xfrm>
            <a:off x="347760" y="4226040"/>
            <a:ext cx="172800" cy="814320"/>
          </a:xfrm>
          <a:custGeom>
            <a:avLst/>
            <a:gdLst/>
            <a:ahLst/>
            <a:rect l="l" t="t" r="r" b="b"/>
            <a:pathLst>
              <a:path w="596" h="598">
                <a:moveTo>
                  <a:pt x="118" y="0"/>
                </a:moveTo>
                <a:cubicBezTo>
                  <a:pt x="53" y="0"/>
                  <a:pt x="0" y="53"/>
                  <a:pt x="0" y="118"/>
                </a:cubicBezTo>
                <a:lnTo>
                  <a:pt x="0" y="589"/>
                </a:lnTo>
                <a:cubicBezTo>
                  <a:pt x="27" y="598"/>
                  <a:pt x="12" y="309"/>
                  <a:pt x="161" y="174"/>
                </a:cubicBezTo>
                <a:cubicBezTo>
                  <a:pt x="310" y="39"/>
                  <a:pt x="596" y="29"/>
                  <a:pt x="589" y="0"/>
                </a:cubicBezTo>
                <a:lnTo>
                  <a:pt x="118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63" name="Group 11"/>
          <p:cNvGrpSpPr/>
          <p:nvPr/>
        </p:nvGrpSpPr>
        <p:grpSpPr>
          <a:xfrm>
            <a:off x="2124000" y="3860640"/>
            <a:ext cx="1224000" cy="1863360"/>
            <a:chOff x="2124000" y="3860640"/>
            <a:chExt cx="1224000" cy="1863360"/>
          </a:xfrm>
        </p:grpSpPr>
        <p:sp>
          <p:nvSpPr>
            <p:cNvPr id="164" name="AutoShape 12"/>
            <p:cNvSpPr/>
            <p:nvPr/>
          </p:nvSpPr>
          <p:spPr>
            <a:xfrm>
              <a:off x="2124000" y="3860640"/>
              <a:ext cx="1163520" cy="1863360"/>
            </a:xfrm>
            <a:custGeom>
              <a:avLst/>
              <a:gdLst>
                <a:gd name="textAreaLeft" fmla="*/ 37080 w 1163520"/>
                <a:gd name="textAreaRight" fmla="*/ 1126440 w 1163520"/>
                <a:gd name="textAreaTop" fmla="*/ 37080 h 1863360"/>
                <a:gd name="textAreaBottom" fmla="*/ 1826280 h 1863360"/>
              </a:gdLst>
              <a:ahLst/>
              <a:rect l="textAreaLeft" t="textAreaTop" r="textAreaRight" b="textAreaBottom"/>
              <a:pathLst>
                <a:path w="21600" h="34588">
                  <a:moveTo>
                    <a:pt x="2352" y="0"/>
                  </a:moveTo>
                  <a:arcTo wR="2352" hR="2352" stAng="16200000" swAng="-5400000"/>
                  <a:lnTo>
                    <a:pt x="0" y="32236"/>
                  </a:lnTo>
                  <a:arcTo wR="2352" hR="2352" stAng="10800000" swAng="-5400000"/>
                  <a:lnTo>
                    <a:pt x="19248" y="34588"/>
                  </a:lnTo>
                  <a:arcTo wR="2352" hR="2352" stAng="5400000" swAng="-5400000"/>
                  <a:lnTo>
                    <a:pt x="21600" y="2352"/>
                  </a:lnTo>
                  <a:arcTo wR="2352" hR="2352" stAng="0" swAng="-5400000"/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50000">
                  <a:srgbClr val="f3f3f3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 </a:t>
              </a: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愤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 </a:t>
              </a: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怒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 </a:t>
              </a: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5" name="Text Box 13"/>
            <p:cNvSpPr/>
            <p:nvPr/>
          </p:nvSpPr>
          <p:spPr>
            <a:xfrm>
              <a:off x="2439360" y="4209480"/>
              <a:ext cx="90864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66" name="Group 14"/>
          <p:cNvGrpSpPr/>
          <p:nvPr/>
        </p:nvGrpSpPr>
        <p:grpSpPr>
          <a:xfrm>
            <a:off x="3924360" y="3860640"/>
            <a:ext cx="1224000" cy="1863360"/>
            <a:chOff x="3924360" y="3860640"/>
            <a:chExt cx="1224000" cy="1863360"/>
          </a:xfrm>
        </p:grpSpPr>
        <p:sp>
          <p:nvSpPr>
            <p:cNvPr id="167" name="AutoShape 15"/>
            <p:cNvSpPr/>
            <p:nvPr/>
          </p:nvSpPr>
          <p:spPr>
            <a:xfrm>
              <a:off x="3924360" y="3860640"/>
              <a:ext cx="1163520" cy="1863360"/>
            </a:xfrm>
            <a:custGeom>
              <a:avLst/>
              <a:gdLst>
                <a:gd name="textAreaLeft" fmla="*/ 37080 w 1163520"/>
                <a:gd name="textAreaRight" fmla="*/ 1126440 w 1163520"/>
                <a:gd name="textAreaTop" fmla="*/ 37080 h 1863360"/>
                <a:gd name="textAreaBottom" fmla="*/ 1826280 h 1863360"/>
              </a:gdLst>
              <a:ahLst/>
              <a:rect l="textAreaLeft" t="textAreaTop" r="textAreaRight" b="textAreaBottom"/>
              <a:pathLst>
                <a:path w="21600" h="34588">
                  <a:moveTo>
                    <a:pt x="2352" y="0"/>
                  </a:moveTo>
                  <a:arcTo wR="2352" hR="2352" stAng="16200000" swAng="-5400000"/>
                  <a:lnTo>
                    <a:pt x="0" y="32236"/>
                  </a:lnTo>
                  <a:arcTo wR="2352" hR="2352" stAng="10800000" swAng="-5400000"/>
                  <a:lnTo>
                    <a:pt x="19248" y="34588"/>
                  </a:lnTo>
                  <a:arcTo wR="2352" hR="2352" stAng="5400000" swAng="-5400000"/>
                  <a:lnTo>
                    <a:pt x="21600" y="2352"/>
                  </a:lnTo>
                  <a:arcTo wR="2352" hR="2352" stAng="0" swAng="-5400000"/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50000">
                  <a:srgbClr val="f3f3f3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 </a:t>
              </a: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协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 </a:t>
              </a: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议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 </a:t>
              </a: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8" name="Text Box 16"/>
            <p:cNvSpPr/>
            <p:nvPr/>
          </p:nvSpPr>
          <p:spPr>
            <a:xfrm>
              <a:off x="4239720" y="4209480"/>
              <a:ext cx="90864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69" name="Group 17"/>
          <p:cNvGrpSpPr/>
          <p:nvPr/>
        </p:nvGrpSpPr>
        <p:grpSpPr>
          <a:xfrm>
            <a:off x="5508720" y="3860640"/>
            <a:ext cx="1224000" cy="1863360"/>
            <a:chOff x="5508720" y="3860640"/>
            <a:chExt cx="1224000" cy="1863360"/>
          </a:xfrm>
        </p:grpSpPr>
        <p:sp>
          <p:nvSpPr>
            <p:cNvPr id="170" name="AutoShape 18"/>
            <p:cNvSpPr/>
            <p:nvPr/>
          </p:nvSpPr>
          <p:spPr>
            <a:xfrm>
              <a:off x="5508720" y="3860640"/>
              <a:ext cx="1163520" cy="1863360"/>
            </a:xfrm>
            <a:custGeom>
              <a:avLst/>
              <a:gdLst>
                <a:gd name="textAreaLeft" fmla="*/ 37080 w 1163520"/>
                <a:gd name="textAreaRight" fmla="*/ 1126440 w 1163520"/>
                <a:gd name="textAreaTop" fmla="*/ 37080 h 1863360"/>
                <a:gd name="textAreaBottom" fmla="*/ 1826280 h 1863360"/>
              </a:gdLst>
              <a:ahLst/>
              <a:rect l="textAreaLeft" t="textAreaTop" r="textAreaRight" b="textAreaBottom"/>
              <a:pathLst>
                <a:path w="21600" h="34588">
                  <a:moveTo>
                    <a:pt x="2352" y="0"/>
                  </a:moveTo>
                  <a:arcTo wR="2352" hR="2352" stAng="16200000" swAng="-5400000"/>
                  <a:lnTo>
                    <a:pt x="0" y="32236"/>
                  </a:lnTo>
                  <a:arcTo wR="2352" hR="2352" stAng="10800000" swAng="-5400000"/>
                  <a:lnTo>
                    <a:pt x="19248" y="34588"/>
                  </a:lnTo>
                  <a:arcTo wR="2352" hR="2352" stAng="5400000" swAng="-5400000"/>
                  <a:lnTo>
                    <a:pt x="21600" y="2352"/>
                  </a:lnTo>
                  <a:arcTo wR="2352" hR="2352" stAng="0" swAng="-5400000"/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50000">
                  <a:srgbClr val="f3f3f3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 </a:t>
              </a: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忧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 </a:t>
              </a: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郁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 </a:t>
              </a: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1" name="Text Box 19"/>
            <p:cNvSpPr/>
            <p:nvPr/>
          </p:nvSpPr>
          <p:spPr>
            <a:xfrm>
              <a:off x="5824080" y="4209480"/>
              <a:ext cx="90864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72" name="Group 20"/>
          <p:cNvGrpSpPr/>
          <p:nvPr/>
        </p:nvGrpSpPr>
        <p:grpSpPr>
          <a:xfrm>
            <a:off x="7236000" y="3860640"/>
            <a:ext cx="1223640" cy="1863360"/>
            <a:chOff x="7236000" y="3860640"/>
            <a:chExt cx="1223640" cy="1863360"/>
          </a:xfrm>
        </p:grpSpPr>
        <p:sp>
          <p:nvSpPr>
            <p:cNvPr id="173" name="AutoShape 21"/>
            <p:cNvSpPr/>
            <p:nvPr/>
          </p:nvSpPr>
          <p:spPr>
            <a:xfrm>
              <a:off x="7236000" y="3860640"/>
              <a:ext cx="1163520" cy="1863360"/>
            </a:xfrm>
            <a:custGeom>
              <a:avLst/>
              <a:gdLst>
                <a:gd name="textAreaLeft" fmla="*/ 37080 w 1163520"/>
                <a:gd name="textAreaRight" fmla="*/ 1126440 w 1163520"/>
                <a:gd name="textAreaTop" fmla="*/ 37080 h 1863360"/>
                <a:gd name="textAreaBottom" fmla="*/ 1826280 h 1863360"/>
              </a:gdLst>
              <a:ahLst/>
              <a:rect l="textAreaLeft" t="textAreaTop" r="textAreaRight" b="textAreaBottom"/>
              <a:pathLst>
                <a:path w="21600" h="34588">
                  <a:moveTo>
                    <a:pt x="2352" y="0"/>
                  </a:moveTo>
                  <a:arcTo wR="2352" hR="2352" stAng="16200000" swAng="-5400000"/>
                  <a:lnTo>
                    <a:pt x="0" y="32236"/>
                  </a:lnTo>
                  <a:arcTo wR="2352" hR="2352" stAng="10800000" swAng="-5400000"/>
                  <a:lnTo>
                    <a:pt x="19248" y="34588"/>
                  </a:lnTo>
                  <a:arcTo wR="2352" hR="2352" stAng="5400000" swAng="-5400000"/>
                  <a:lnTo>
                    <a:pt x="21600" y="2352"/>
                  </a:lnTo>
                  <a:arcTo wR="2352" hR="2352" stAng="0" swAng="-5400000"/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50000">
                  <a:srgbClr val="f3f3f3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接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受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4" name="Text Box 22"/>
            <p:cNvSpPr/>
            <p:nvPr/>
          </p:nvSpPr>
          <p:spPr>
            <a:xfrm>
              <a:off x="7551360" y="4209480"/>
              <a:ext cx="908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隶书"/>
                </a:rPr>
                <a:t>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临终患者的心理反应与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一）临终患者的心理反应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宋体"/>
                <a:ea typeface="宋体"/>
              </a:rPr>
              <a:t>否认期（</a:t>
            </a:r>
            <a:r>
              <a:rPr b="1" lang="en-US" sz="2800" spc="-1" strike="noStrike">
                <a:solidFill>
                  <a:srgbClr val="993300"/>
                </a:solidFill>
                <a:latin typeface="宋体"/>
                <a:ea typeface="宋体"/>
              </a:rPr>
              <a:t>denial</a:t>
            </a:r>
            <a:r>
              <a:rPr b="1" lang="zh-CN" sz="2800" spc="-1" strike="noStrike">
                <a:solidFill>
                  <a:srgbClr val="993300"/>
                </a:solidFill>
                <a:latin typeface="宋体"/>
                <a:ea typeface="宋体"/>
              </a:rPr>
              <a:t>）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大多数人得知患不治之症时会表现出震惊与否认，通常的反应是“不，不是我”或“不可能”。患者可能会采取各种方式试图证实诊断是错误的，不承认自己患了绝症或者病情恶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临终患者的心理反应与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一）临终患者的心理反应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宋体"/>
                <a:ea typeface="宋体"/>
              </a:rPr>
              <a:t>愤怒期（</a:t>
            </a:r>
            <a:r>
              <a:rPr b="1" lang="en-US" sz="2800" spc="-1" strike="noStrike">
                <a:solidFill>
                  <a:srgbClr val="993300"/>
                </a:solidFill>
                <a:latin typeface="宋体"/>
                <a:ea typeface="宋体"/>
              </a:rPr>
              <a:t>anger</a:t>
            </a:r>
            <a:r>
              <a:rPr b="1" lang="zh-CN" sz="2800" spc="-1" strike="noStrike">
                <a:solidFill>
                  <a:srgbClr val="993300"/>
                </a:solidFill>
                <a:latin typeface="宋体"/>
                <a:ea typeface="宋体"/>
              </a:rPr>
              <a:t>）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在被证实诊断无误后，患者难以接受现实，出现痛苦、怨恨、暴怒等心理反应，表现为生气、愤怒、怨天尤人，“为什么会是我？”有人甚至会迁怒于医务人员和家属，以谩骂等破坏性行为发泄其内心的痛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临终患者的心理反应与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一）临终患者的心理反应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宋体"/>
                <a:ea typeface="宋体"/>
              </a:rPr>
              <a:t>协议期（</a:t>
            </a:r>
            <a:r>
              <a:rPr b="1" lang="en-US" sz="2800" spc="-1" strike="noStrike">
                <a:solidFill>
                  <a:srgbClr val="993300"/>
                </a:solidFill>
                <a:latin typeface="宋体"/>
                <a:ea typeface="宋体"/>
              </a:rPr>
              <a:t>bargaining</a:t>
            </a:r>
            <a:r>
              <a:rPr b="1" lang="zh-CN" sz="2800" spc="-1" strike="noStrike">
                <a:solidFill>
                  <a:srgbClr val="993300"/>
                </a:solidFill>
                <a:latin typeface="宋体"/>
                <a:ea typeface="宋体"/>
              </a:rPr>
              <a:t>）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患者承认已存在的事实，但祈求会有奇迹发生。患者表现为不再怨天尤人，会提出要求，“是的，是我。但是要能让我再多活一年，我就可以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……”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希望尽一切力量延长生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临终患者的心理反应与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一）临终患者的心理反应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宋体"/>
                <a:ea typeface="宋体"/>
              </a:rPr>
              <a:t>忧郁期（</a:t>
            </a:r>
            <a:r>
              <a:rPr b="1" lang="en-US" sz="2800" spc="-1" strike="noStrike">
                <a:solidFill>
                  <a:srgbClr val="993300"/>
                </a:solidFill>
                <a:latin typeface="宋体"/>
                <a:ea typeface="宋体"/>
              </a:rPr>
              <a:t>depression</a:t>
            </a:r>
            <a:r>
              <a:rPr b="1" lang="zh-CN" sz="2800" spc="-1" strike="noStrike">
                <a:solidFill>
                  <a:srgbClr val="993300"/>
                </a:solidFill>
                <a:latin typeface="宋体"/>
                <a:ea typeface="宋体"/>
              </a:rPr>
              <a:t>）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当患者知道讨价还价无效后，死亡威胁和身体状况的下降使其悲伤、失落、情绪低沉、语言减少、反应迟钝、沉默、抑郁甚至有自杀的想法，“那就是我！”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临终患者的心理反应与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一）临终患者的心理反应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宋体"/>
                <a:ea typeface="宋体"/>
              </a:rPr>
              <a:t>接受期（</a:t>
            </a:r>
            <a:r>
              <a:rPr b="1" lang="en-US" sz="2800" spc="-1" strike="noStrike">
                <a:solidFill>
                  <a:srgbClr val="993300"/>
                </a:solidFill>
                <a:latin typeface="宋体"/>
                <a:ea typeface="宋体"/>
              </a:rPr>
              <a:t>acceptance</a:t>
            </a:r>
            <a:r>
              <a:rPr b="1" lang="zh-CN" sz="2800" spc="-1" strike="noStrike">
                <a:solidFill>
                  <a:srgbClr val="993300"/>
                </a:solidFill>
                <a:latin typeface="宋体"/>
                <a:ea typeface="宋体"/>
              </a:rPr>
              <a:t>）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在经过一切努力、抗争后，患者认为自己已经尽力，完成了人生的路程，面对死亡产生了“是的，是我，我已经准备好了”的心理反应，表现出平静与接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临终患者的心理反应与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二）临终患者的心理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黑体"/>
                <a:ea typeface="黑体"/>
              </a:rPr>
              <a:t>否认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尊重患者反应，不要急于揭穿其防御心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理解、同情患者，认真倾听其感受，维持其适当的希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对家属给予支持，使之理解患者行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慢慢诱导，时时渗透人生观、死亡观的教育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要经常巡视病房并陪伴患者，多应用体态语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临终患者的心理反应与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二）临终患者的心理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黑体"/>
                <a:ea typeface="黑体"/>
              </a:rPr>
              <a:t>愤怒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理解愤怒是患者心理调适的反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工作中充满爱心、耐心和同情心，不能采取任何个人攻击行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护理人员要为其提供表达愤怒的机会，以宣泄其情感，并提供及时、有效的护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动员患者身边的人员理解、同情和关爱患者，让其感受人间温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临终患者的心理反应与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二）临终患者的心理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黑体"/>
                <a:ea typeface="黑体"/>
              </a:rPr>
              <a:t>协议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观察患者的反应，积极主动地关心和指导，加强护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尽量满足患者的要求，使其更好地配合治疗，减轻痛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临终患者的心理反应与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二）临终患者的心理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黑体"/>
                <a:ea typeface="黑体"/>
              </a:rPr>
              <a:t>忧郁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给予患者精神支持，允许其用忧伤、哭泣等方式宣泄情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鼓励患者保持自我形象和尊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尽量争取社会方面的支持和帮助，让家人陪伴在患者身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密切观察患者的心理变化，做好心理护理，预防自杀意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素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养成能理解、关爱与尊重临终患者及其家属的职业态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具备能感悟生命、尊重生命、珍爱生命的职业情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临终患者的心理反应与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二）临终患者的心理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黑体"/>
                <a:ea typeface="黑体"/>
              </a:rPr>
              <a:t>接受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尊重患者，给予其安静、舒适、独处的环境，减少干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关爱患者，加强生活护理，让其安详、平静地离开人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二、临终患者的生理变化与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一）临终患者的生理变化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肌肉张力丧失   表现为肢体软弱无力，不能进行自主躯体活动，无法维持良好功能体位。濒死者常见希氏面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胃肠道蠕动逐渐减弱   表现为食欲缺乏、呃逆、恶心、呕吐、腹胀或便秘等，因入量减少出现口干，甚至脱水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二、临终患者的生理变化与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一）临终患者的生理变化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循环功能衰退   表现为皮肤苍白、发绀、湿冷，脉搏快而弱、不规则或测不出，血压下降或测不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呼吸功能减退   表现为呼吸频率不规则，呼吸表浅、急促等，出现鼻翼呼吸、潮式呼吸等，最终呼吸停止。支气管内有分泌物潴留时可出现痰鸣音及鼾声呼吸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二、临终患者的生理变化与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一）临终患者的生理变化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感知觉、意识改变   表现为视觉逐渐减退到只有光感，最后视力消失。听觉常是临终患者最后消失的一个感觉。意识改变可表现为嗜睡、意识模糊、昏睡、昏迷等。此外，患者常存在不同程度的疼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二、临终患者的生理变化与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二）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加强生活护理，促进舒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给予营养支持，改善营养状况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3" name="AutoShape 8"/>
          <p:cNvSpPr/>
          <p:nvPr/>
        </p:nvSpPr>
        <p:spPr>
          <a:xfrm>
            <a:off x="5003640" y="1268280"/>
            <a:ext cx="2232360" cy="1584360"/>
          </a:xfrm>
          <a:prstGeom prst="wedgeRoundRectCallout">
            <a:avLst>
              <a:gd name="adj1" fmla="val -42958"/>
              <a:gd name="adj2" fmla="val 66430"/>
              <a:gd name="adj3" fmla="val 16667"/>
            </a:avLst>
          </a:prstGeom>
          <a:solidFill>
            <a:srgbClr val="ffffff"/>
          </a:solidFill>
          <a:ln w="9360">
            <a:solidFill>
              <a:srgbClr val="046ca6">
                <a:alpha val="6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提供舒适环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做好皮肤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重视口腔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注意眼部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AutoShape 9"/>
          <p:cNvSpPr/>
          <p:nvPr/>
        </p:nvSpPr>
        <p:spPr>
          <a:xfrm>
            <a:off x="5867280" y="3141720"/>
            <a:ext cx="2952720" cy="2016000"/>
          </a:xfrm>
          <a:prstGeom prst="wedgeRoundRectCallout">
            <a:avLst>
              <a:gd name="adj1" fmla="val -51504"/>
              <a:gd name="adj2" fmla="val 54486"/>
              <a:gd name="adj3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评估患者的饮食及营养状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依据其实际情况以合适的方式提供充足的营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二、临终患者的生理变化与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二）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改善患者的血液循环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促进患者呼吸功能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7" name="AutoShape 4"/>
          <p:cNvSpPr/>
          <p:nvPr/>
        </p:nvSpPr>
        <p:spPr>
          <a:xfrm>
            <a:off x="4643280" y="1052640"/>
            <a:ext cx="3816360" cy="2305080"/>
          </a:xfrm>
          <a:prstGeom prst="wedgeRoundRectCallout">
            <a:avLst>
              <a:gd name="adj1" fmla="val -58027"/>
              <a:gd name="adj2" fmla="val 38222"/>
              <a:gd name="adj3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监测患者生命体征及尿量，注意四肢皮肤的色泽和温、湿度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四肢冰冷者，加强保暖，用热水袋时水温不超过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0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AutoShape 5"/>
          <p:cNvSpPr/>
          <p:nvPr/>
        </p:nvSpPr>
        <p:spPr>
          <a:xfrm>
            <a:off x="4284720" y="3645000"/>
            <a:ext cx="4174920" cy="2520720"/>
          </a:xfrm>
          <a:prstGeom prst="wedgeRoundRectCallout">
            <a:avLst>
              <a:gd name="adj1" fmla="val -56958"/>
              <a:gd name="adj2" fmla="val -14490"/>
              <a:gd name="adj3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观察患者的呼吸状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保持空气新鲜，定时通风换气；呼吸困难者给予吸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根据病情调整适当的卧位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协助患者排痰，保持呼吸道通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二、临终患者的生理变化与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二）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减轻感知觉改变的影响，缓解疼痛</a:t>
            </a: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1" name="AutoShape 4"/>
          <p:cNvSpPr/>
          <p:nvPr/>
        </p:nvSpPr>
        <p:spPr>
          <a:xfrm>
            <a:off x="3348000" y="2852640"/>
            <a:ext cx="5184720" cy="3600720"/>
          </a:xfrm>
          <a:prstGeom prst="wedgeRoundRectCallout">
            <a:avLst>
              <a:gd name="adj1" fmla="val 8328"/>
              <a:gd name="adj2" fmla="val -56023"/>
              <a:gd name="adj3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病室光照柔和，避免患者因视觉模糊产生恐惧心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若患者视觉丧失，应用语言和触觉与其保持联系，提供生活和心理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避免在患者周围窃窃私语、讨论病情或哭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评估患者疼痛情况，用适当的方式减轻其疼痛，注意观察止痛效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三、临终患者家属的反应与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一）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临终患者家属的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临终患者家属的反应主要表现为失落与悲哀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986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年费尔斯特和霍克提出临终患者家属的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7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个方面的需要：了解患者病情、照顾等相关问题的发展；了解临终关怀医疗小组中，哪些人会照顾患者；患者的日常照顾；使患者受到临终关怀医疗小组的良好照顾；被关怀与支持；了解患者死后相关事宜；了解有关资源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Verdana"/>
                <a:ea typeface="宋体"/>
              </a:rPr>
              <a:t>三、临终患者家属的反应与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二）</a:t>
            </a: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关注家属的需要，鼓励其陪伴患者，创造有利于他们交流和保护隐私的环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与家属沟通，建立良好关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倾听家属的感受，鼓励其参与有关患者护理的讨论和实施，使其看到患者能受到良好的照顾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对家属过激的言行给予谅解，避免纠纷的发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第三节   患者死亡后的护理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一、尸体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二、死者家属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主要内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第一节  概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第二节  临终患者与家属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第三节  患者死亡后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尸体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一）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目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使尸体整洁，维持良好外观，易于辨认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给家属以安慰，减轻悲痛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尸体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二）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操作前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Arial"/>
                <a:ea typeface="宋体"/>
              </a:rPr>
              <a:t>环境准备：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安静、清洁、肃穆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Arial"/>
                <a:ea typeface="宋体"/>
              </a:rPr>
              <a:t>用物准备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尸体护理用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护理后用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Arial"/>
                <a:ea typeface="宋体"/>
              </a:rPr>
              <a:t>护士准备：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洗手，戴口罩，着装整洁，必要时戴手套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尸体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三）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操作步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评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准备用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携用物至床旁解释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尸体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4" name="AutoShape 4"/>
          <p:cNvSpPr/>
          <p:nvPr/>
        </p:nvSpPr>
        <p:spPr>
          <a:xfrm>
            <a:off x="2556000" y="3573360"/>
            <a:ext cx="576000" cy="2376720"/>
          </a:xfrm>
          <a:custGeom>
            <a:avLst/>
            <a:gdLst>
              <a:gd name="textAreaLeft" fmla="*/ 367920 w 576000"/>
              <a:gd name="textAreaRight" fmla="*/ 576000 w 576000"/>
              <a:gd name="textAreaTop" fmla="*/ 61920 h 2376720"/>
              <a:gd name="textAreaBottom" fmla="*/ 2314800 h 237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Rectangle 7"/>
          <p:cNvSpPr/>
          <p:nvPr/>
        </p:nvSpPr>
        <p:spPr>
          <a:xfrm>
            <a:off x="3203640" y="3429000"/>
            <a:ext cx="2376360" cy="2592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添加治疗物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摆放体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清洁面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整理遗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填塞孔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清洁全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尸体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三）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操作步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尸体整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运送尸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操作后处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8" name="AutoShape 4"/>
          <p:cNvSpPr/>
          <p:nvPr/>
        </p:nvSpPr>
        <p:spPr>
          <a:xfrm>
            <a:off x="2700360" y="1989000"/>
            <a:ext cx="287280" cy="1368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35640 h 1368720"/>
              <a:gd name="textAreaBottom" fmla="*/ 1333080 h 1368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Rectangle 5"/>
          <p:cNvSpPr/>
          <p:nvPr/>
        </p:nvSpPr>
        <p:spPr>
          <a:xfrm>
            <a:off x="3059280" y="1916280"/>
            <a:ext cx="136980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穿尸衣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固定肢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放置识别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0" name="AutoShape 6"/>
          <p:cNvSpPr/>
          <p:nvPr/>
        </p:nvSpPr>
        <p:spPr>
          <a:xfrm>
            <a:off x="3011400" y="4149720"/>
            <a:ext cx="216000" cy="1152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3257640" y="4041720"/>
            <a:ext cx="1295280" cy="1368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处理床单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整理病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整理遗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尸体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四）</a:t>
            </a: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注意事项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医生开出死亡通知得到家属许可后，方可进行尸体护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屏风遮挡以维护死者权利，减少对同室其他患者的影响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及时进行尸体护理，防止尸体僵硬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护士要尊重死者和家属，态度严肃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护理时死者头下置枕头，防止面部淤血变色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整理仪容时要闭合死者的眼、口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尸体护理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0" y="1125000"/>
            <a:ext cx="8820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Arial"/>
                <a:ea typeface="宋体"/>
              </a:rPr>
              <a:t>（四）</a:t>
            </a: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注意事项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外界相通的孔道用棉花填塞，防止体液外溢，如有传染病用消毒液浸泡的棉球填塞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传染病患者的尸体须用消毒液擦洗，穿好尸衣、尸单包裹后装入不透水的袋中且密封，做好传染病标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若家属不在，两人清点遗物后，列出清单交护士长保管，然后交给家属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二、死者家属的护理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-360" y="137124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Arial"/>
                <a:ea typeface="宋体"/>
              </a:rPr>
              <a:t>（一）</a:t>
            </a: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死者家属的心理反应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964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年安格乐提出了悲伤的过程分为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个阶段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冲击与怀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逐渐承认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恢复常态期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克服失落感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理想化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恢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二、死者家属的护理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-360" y="137124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Arial"/>
                <a:ea typeface="宋体"/>
              </a:rPr>
              <a:t>（二）</a:t>
            </a: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家属居丧期的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．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做好死者尸体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．心理辅导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满足需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建立人际关系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协助分散注意力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家属访视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第一节   概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一、临终关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二、濒死与死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临终关怀</a:t>
            </a:r>
            <a:br>
              <a:rPr sz="28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一）临终关怀的由来与发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临终关怀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(hospice care)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又称安宁照顾、善终服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967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年桑德斯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D. C. Saunders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博士在创办了世界上第一所专门从事临终关怀服务的机构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圣克里斯多弗临终关怀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临终关怀</a:t>
            </a:r>
            <a:br>
              <a:rPr sz="28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一）临终关怀的由来与发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988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年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7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月，我国天津医学院（现天津医科大学）在美籍华人黄天中博士的资助下，成立了中国第一个临终关怀研究中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临终关怀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（二）概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指由向临终患者及家属提供的一种包括生理、心理和社会等方面的全面照顾，目的是使患者的生命得到尊重，症状得到控制，生命质量得到提高，其家属的身心健康得到维护和增强，使患者在临终时能够无痛苦、安宁、舒适地走完人生的最后旅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临终关怀是一种特殊姑息性的治疗和护理服务项目，也是一门新兴交叉学科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临终关怀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三）基本特点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3" name="Oval 4"/>
          <p:cNvSpPr/>
          <p:nvPr/>
        </p:nvSpPr>
        <p:spPr>
          <a:xfrm>
            <a:off x="468360" y="2421000"/>
            <a:ext cx="2448000" cy="201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993300"/>
                </a:solidFill>
                <a:latin typeface="Arial"/>
                <a:ea typeface="宋体"/>
              </a:rPr>
              <a:t>对象是临终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993300"/>
                </a:solidFill>
                <a:latin typeface="Arial"/>
                <a:ea typeface="宋体"/>
              </a:rPr>
              <a:t>患者及家属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Oval 5"/>
          <p:cNvSpPr/>
          <p:nvPr/>
        </p:nvSpPr>
        <p:spPr>
          <a:xfrm>
            <a:off x="2916360" y="2421000"/>
            <a:ext cx="2447640" cy="201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Arial"/>
                <a:ea typeface="宋体"/>
              </a:rPr>
              <a:t>内容涉及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Arial"/>
                <a:ea typeface="宋体"/>
              </a:rPr>
              <a:t>广泛全面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Oval 6"/>
          <p:cNvSpPr/>
          <p:nvPr/>
        </p:nvSpPr>
        <p:spPr>
          <a:xfrm>
            <a:off x="5364000" y="2349360"/>
            <a:ext cx="2448000" cy="2016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Arial"/>
                <a:ea typeface="宋体"/>
              </a:rPr>
              <a:t>形式多样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Arial"/>
                <a:ea typeface="宋体"/>
              </a:rPr>
              <a:t>化、本土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zhaoxin</cp:lastModifiedBy>
  <cp:lastPrinted>1899-12-30T00:00:00Z</cp:lastPrinted>
  <dcterms:modified xsi:type="dcterms:W3CDTF">2014-09-05T10:35:36Z</dcterms:modified>
  <cp:revision>41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